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46B-09FD-4A2F-A01B-90FB862B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9BB-D7F6-410D-B801-32B6F785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224B4-7A58-49FE-BE9B-3A640E6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E73C7-7963-4184-8B65-D77DDDB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73431-6167-496A-99EB-7880D4FD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6FDCD-A3E2-4764-B4EC-EEE32FD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88E43-9EC5-4A8A-BA66-407D288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47003-7EDB-42AD-B98D-C404967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13DEB-B44E-4727-A68C-A3F8CAE3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A0A9F-108A-49C6-993F-12792DFF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D407D-9344-4666-9F82-7098558F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30212-F177-4905-81BD-8C51C707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F23-0298-4F65-A333-C4199377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4170D-A603-45B5-83AB-A718A35F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D533B-CAC6-4FC9-8FF7-7F209A0E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5065D-8C31-43BC-91B7-B0A73C82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45E54-9302-44BB-8087-7577874D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A4DB6-F133-44CA-939C-91E8BFF2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3357D-7028-405B-8E2A-0FACE11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A4DC7-C5F0-44CA-8140-870D672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AD673-CA67-40C2-BFED-614F2E7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6EA60-47DB-447A-8D11-D761E13C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8D964-E031-4B5A-B095-9EECE86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A31-9940-4427-9D1E-83527F68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CF247-D8B4-405C-9E7F-B5E2EB24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3FB8B-E452-49EA-A806-634E3E9A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9059C-13AA-4277-B0D9-6B789A5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5B772-4F23-4D3A-B4BA-322D5DA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CB420-24E8-4DDF-A8C3-9C9F5AAB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CE3B1-A536-43BB-ABBF-2469421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DBC74-715A-484C-A19F-7B9FC98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F5038-213D-4586-A3B3-8947017B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5AFA8-4BAF-45E7-93F3-C598B9CB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9A89C-6699-432C-8143-08D5199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A59D-50DD-477A-A7BA-1B3924B6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9B131-9AD8-4F03-8E19-9842996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7797F-056B-4859-9D71-7BD24730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7BD1B-28FA-4190-A8F3-CD135643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21FE3-D006-4704-A15C-0F009CD9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BEF15-4DFC-44D7-8847-6EE80E6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D8301-07BA-48B5-9926-CC4162F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AABD9-5EF8-4A09-AD9D-B05DEBB1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BE8FD-13B2-4D90-9682-FA56686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CA005-18DE-40AC-9F83-DB66472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15E2B-4A00-4E03-A81C-5F42E69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0311-A904-4F52-A30F-862C221C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CE015-32FC-46D9-A3AD-123C3F0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578F1-B2AE-4B17-B621-984DFED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D93EE-3667-4D1E-A6C7-2E676F11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CABC5-2492-43E3-990C-2ECB6144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1BB03-DC2A-4357-9FA0-B7EE26F2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1BC93-74E4-4FA5-BFD3-06A467B2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A7478-6BCA-41B0-8C05-74628CA8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A8449-6EE1-4A6F-8820-4647C8F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28954-3DB3-4F6A-951B-1D4AF2A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02B8A-296A-4B84-BA6D-7A86B211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014-455F-4823-AF30-CE60DC8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193B8-0EFC-4282-91AD-9F89E03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E6C04-5F61-4D80-99E1-2165631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4B185-C54B-4FB0-8EC9-40FAD3E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14409-80AA-42AD-959C-B5C7822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3E81C-08D6-4A8A-B5F8-7F945219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346BA-7C9D-41F4-9D44-F8D76336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AEE5F-2877-4E2A-B83B-C6806A91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1B957-613B-4347-B550-4768E346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37671-4BE7-4917-9F41-E4AFEA1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45A7A-21F2-4199-A821-08128666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34D9-9880-4759-B153-3A629B7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E506F-E744-4D9D-9E66-0783D478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31525-568E-4AFC-92C6-110DA4E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C8482-7633-46DE-AC15-02F04FA3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56CCB-D033-44CD-B7B9-DDC5A2F7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048E2-BC1E-447A-9380-51789DD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96611-9F6D-4AD1-A337-D6AD449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85961-E79B-4282-A7D6-E57BA6CF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7A02A-87BA-442B-BCF7-449DB0AF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979EF-9F3D-4E81-A06C-2F9A303E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55E22-E848-45CA-88E9-657616EE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ED42-4E20-437D-8268-DB72818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97E33-D34C-483A-81A2-DF6EAE3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9FBFA-765C-4CEB-8D3A-7D0F1E47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BCAD0-6F63-4E5D-B664-3AC08EA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13A2E-2D90-4108-A663-197CCD01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ADEC6-205A-46B8-BC56-B02BC546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6DFBE-4271-4752-BE91-E954E24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A8D38-CF8F-44EF-BB78-AEA1C74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71CB9-2DF6-49ED-90FA-982828B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98F6E-4475-4966-BDFF-03BDC461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70957-6FD6-40D9-A1D5-591D9AE2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678-BA7F-472A-AABA-59F82B8E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E89EA-498A-4EF4-A1E8-3E350BEF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62A76-E0FC-4FEC-8581-005BD7F8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27A67-D5B0-45FF-A270-54BD2550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8F773-EB20-45AE-B15F-6ABF98D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A29C0-9391-47FC-B2D6-CE64C03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2ED90-E7E3-4E9F-AA01-BB0A984B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5D887-068F-4E7F-880A-24C0846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12E04-3672-4820-8638-56D0554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6C237-1C68-47E9-A1A8-225F143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54E96-FDF6-48C7-B11C-93F7966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A6B-5832-4266-BB32-FCF05E3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AD6D5-98DE-47C6-A6C4-2724766D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01EBD-9DBE-438B-B5F8-5E211F90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F2574-B68C-44CA-A291-426BA1A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7E847-AC36-4683-BCE1-81A86661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B29DB-1F4A-457E-BD38-35C9D36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F4FD7-0A8A-4017-8B84-DCCD200E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D4AF7-1E63-4C79-8546-1DA8B67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9C517E-F74F-442F-A378-C38530F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7EC14-4125-4A40-BCD0-0738C57A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9CB11-5706-4F7B-BA1F-C2A9895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62F-8A77-456F-B9F9-AE1C8EBB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4162-3C6D-40DF-8204-D6D45DDC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59EDD-99AC-4D95-B0C4-D439C8D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A2748-8E1B-4009-BFBB-CCFD7D2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14978-6C89-4AC8-BF3C-776099D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73EDD-2B16-44B1-8174-6D87565F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53969-EA29-45E3-A66A-82BEDE99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7F9C0-8F24-499D-8618-30D92CFF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09823-8BCF-4542-982B-3996C72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C5920-6852-413C-8A56-25F8B95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F67ED-1641-42C5-AF71-890D4289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99DBD-4B00-45C7-91D9-9E8A414E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999-AAED-422A-AFCE-035E749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5131D-4882-476D-9E8D-95D0CAB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26ADB-9352-45A6-9FF1-814DAA4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6F6D1-DC1F-4E99-8BFF-1028E74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F8329-FD41-4448-BB80-51BA07A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D1613-524A-4D76-8FBE-41848A62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BF5CB-A82A-4C7C-96AC-6E88AF90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C2EAD-5EA5-4A18-8236-FF2D954E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E14E6-3017-4485-92C1-8CFA6864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FDBE0-1532-4ECE-9A7D-39BDE6F8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7D86D-0A9C-4F20-BC2D-6D59AEA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EED1-E291-4419-90DC-5A4C768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0D6A5-E4C7-4001-9C21-287B22FC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12DBC-82B0-48A0-8EB5-3B4EAFF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31B6C-A145-49EA-83A3-3DEF9EAB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61B0D-33EF-44FC-BC3D-59824732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A8083-5947-4109-BA91-0D856A9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185BD-4229-41FD-9D7B-EF7879F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25316-1180-43CF-86B0-5C4842F4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8C23B-2FA8-4C1A-86D3-E01E30F0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F3AA7-CA8B-4991-8791-9B65AAC0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C9418-842F-49E2-85D6-2FB0BE33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81D-3965-401E-9A28-B7093557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A7519-E006-4422-8260-63709762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4682F-6784-49D0-B154-FA8C1E3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A834D-622C-4698-92DE-B73B396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9C01D-A11D-4511-8048-8436CA3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B3332-BE3E-4FE0-AA0C-DC1259C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E7E1B-17F2-4D1B-8B3D-2B0CFE8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73720-8ED5-4F02-8281-BC9AE66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5E12B-CDFF-4EF9-8882-9EEDFD2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25090-C91C-42D1-A67D-FF4BFB0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C8BDF-103C-400F-9D06-7697700F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1DB-66A0-47F2-B6F9-C9B4F27D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3D947-5061-4CE0-AA94-04E9593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F75AC-EAC0-416D-823D-E810BA2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A6824-973D-445F-88F3-3F04235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37D9B-10D8-4C73-A8BC-F99DBC3C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78A351-008A-4C93-A54A-6B51C61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AE22B-020D-4ACC-87E3-C645827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1DBD6-5ED5-4A61-B590-EB33E1B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796856-FE84-4D03-9E01-09B2CB1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AE830-32F2-4146-BB71-D684D62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C8141-B0BF-4863-806D-00A5737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FFE9-5AC9-4177-AC14-112A2016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55261-49D3-4B0C-AC82-C4368600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E7E5F-4D89-4AFA-B43E-6B49A5D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CDE61-8818-4F0C-B8FE-4155659F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BB70-1382-4AE9-BA63-D26CFAC1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AE76-8F47-4CC9-B98F-6BD70A6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2BC9-B681-4932-BA42-C69E7AA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0455-128B-4BA6-8EE5-5E5487B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D5B-5FA7-42CD-9D3F-8CF8BACF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2F10-6C1E-48EC-910F-4ED810C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CCED-F08D-41A7-BA30-1A38014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3739-B722-4AF6-98E2-7DAE62D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A7E4-714F-4A93-83FD-D77867E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8D73-5996-4C01-A000-EA01EE7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4AE4-9C0D-45CC-8980-75A02ECB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D4DA-51F2-498D-AFD5-61FE1B3A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6827-1298-4372-A73E-C2C8097A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66DE-EE05-493D-8A62-20E4FA40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61E1-74F9-4C71-918A-2E24F8A0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AC0-5C77-4DD9-ABDF-8C235FA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463B-E7DA-4627-9FD9-8FCF49B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6F62-AFBF-46B8-804D-69D86993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E861-13C3-46D0-9563-30E7222E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5B6F-395F-4D06-A396-0E243DA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B684-9E11-4451-9581-90E87CB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D368-13FB-4EA6-8BFD-4578045B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7A12-213E-460D-9868-2AEEB5D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AE95-10C5-41B0-A734-51F4A0D9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8111-78ED-415F-A689-66CEED28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6880-E822-4975-ABF8-299300D2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8EB-125D-459D-AB9C-E158307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049F-3D5C-434E-A285-C58DF3D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61E6-8A87-4B46-8778-DA11E47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9E80-3D90-4051-815E-507757E5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032D-6F4F-4EF2-8745-CBE47E5F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B873-0110-449B-AEE5-6BBFDDC0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2DF4-897B-480A-BF45-4EBED76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6439-C55B-4B0D-AD99-B452E8B5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D916-7D55-4724-9F4B-BD1A7B9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6A6A-CB44-4C96-8D9A-EA3C5AB1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4E2EF-6565-4321-B635-A193B5A4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F29-ECF3-48E5-B95F-299B5BB1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A96E-860E-40C7-93B3-90549560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ACB0-5319-495B-9C87-41A3553C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D3095-672F-4F53-A72C-4ACF773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EAAC-32EF-460B-9288-B128394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9B0A-A538-4D59-B00D-1BB46A3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E7B2-FA4F-46CA-ADC0-B10B5326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5100-A323-4A82-900E-19C6BDC5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D931-4AFD-4758-8619-D2B5146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EC72-5812-49B6-BD47-F38EA30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62A08-6806-4528-A982-C7278DD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6A0-EA35-4EEC-A435-763B2D2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0B35-72BF-47E8-B871-B0958C17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3842-3022-4850-8D4E-D95BC87F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08D9F-011D-4CD5-B5A4-7A1E671C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6D336-C48D-4B6B-8855-A7A25142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3333-994D-4338-9CFA-14EA90C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5531-FF87-413D-8262-D083E309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A9697-3ABC-46AC-B1EE-6C21C30D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78CB-7121-4203-90A6-2FF918C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F86F-A015-4B5A-A287-E501BF2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674D-E18F-4B90-94DD-E6706F0F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EA4-E45F-48E4-B404-213BEFE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1269-908B-4A6E-9461-19BCD4D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D104-88B9-4731-B9EA-3466C3A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2AEBD-BC2E-4A2A-B13B-A692DC2D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B9061-0ED4-4585-8B22-92B322E3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A93BB-F345-48BE-B893-5C638056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5227E-BBE8-4A21-AC79-6BE9DF7C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7096-66A3-4F29-B89D-D622CD5E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5AF88-84D3-48BF-8232-EE992E01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015A-F516-44FF-A95C-AF92B3D9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054A2-7D2D-4391-B7A9-0E45DA5F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872-BB17-4650-8BEA-3056FBE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FC41-6FB6-452F-8AF8-F179A92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2A44A-4CBF-4C1A-8468-CF0223B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2A9A-CA78-4F87-9684-4D996D8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C095-DB68-4568-AC8C-2DDCFBB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2456-90AD-4D76-A261-6C4E419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A206-EA7D-4E30-8DF3-24706085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CF9D-4113-45F6-A7CD-9DD03A27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4E7D-6452-4507-BADD-E02910D2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3597D-A628-41D9-A7EB-DDA6C72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A202-1BBC-4168-91AA-224556A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36D4-453B-4AFE-BFC6-FE83FB62D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8A4B-D35D-4495-8646-87F258EA9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455B-1DF1-4030-964A-682AAAC11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9516-01A7-41A7-8ACB-0089B0F51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188-F9CC-40D4-A751-C2169F816E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B0A-3FC4-46BC-ABE0-BD78E28FA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232C-1CD8-48E1-93D5-06BD29B80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38B5-7736-4F70-A43B-EE89B52F7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D89-BE94-4F08-983F-62225ACC99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DFD-7C46-4191-ADBD-00DC22AD77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463D-4B88-4E77-8535-A1047EE611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73E5-37C9-488B-A833-B1B999018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D913-71E2-4982-87C3-7FF90284AE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B2A-F962-4F98-B518-E5B66CBA7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3EC9-690D-4106-BEA3-1CC86646D9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304-559B-47C2-A2AD-6A6B297A2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9185-5F4D-4F7D-960B-721D8B951D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131-3BDF-43BD-AF85-1FC51349B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C80-AE37-478D-85DB-E79DFC8E4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AD5F-6489-4636-93EC-BE6500A37E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4C8-0FE4-4F2A-B4EC-11CE417DC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F540-6878-499C-BD74-DA4E588A2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BD8F-8CF5-401B-910E-0ED792105D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9D89-7C39-4EED-8F7D-99669B15D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ADF-7E07-4A43-B7E7-A8F2FA1770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B0E-33A3-49E7-9322-8E573A7566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AAE0-F843-47D8-BFEA-600BC7CD3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0463-1363-4277-972F-F380498B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B4AC-D4F6-4870-9537-D32287202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EAA-2BC2-4891-A777-8B512A610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FBB-5DDA-450D-8FE4-B3056217C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AE66-8D20-4AEB-8F3C-4F37EDCCBD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6F6A-B3B5-403E-9DB9-2F302D7CE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8838-BA2C-4204-9E89-53C9532F0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FCEF-6A8D-4517-94C2-A97C2E6A1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D947-E785-44F6-BEEA-AF889A289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106-D0F2-4148-938C-554A66C2C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181-9FAD-4DDD-80FC-89EFA92F3F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6CD6-CDA1-4710-8C46-9291B1C64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E1D2-8570-49E4-9715-CD940AD01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42840" y="3062160"/>
            <a:ext cx="72583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99880" y="1023840"/>
            <a:ext cx="8544240" cy="54770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50960" y="257328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50960" y="392580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750960" y="565164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99880" y="1071720"/>
            <a:ext cx="8544240" cy="52862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2"/>
          <a:stretch/>
        </p:blipFill>
        <p:spPr>
          <a:xfrm>
            <a:off x="642960" y="240840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642960" y="456876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314280" y="1568520"/>
            <a:ext cx="8515440" cy="2238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2"/>
          <a:stretch/>
        </p:blipFill>
        <p:spPr>
          <a:xfrm>
            <a:off x="317520" y="3833640"/>
            <a:ext cx="8420040" cy="1381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3940200" y="20527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4"/>
          <a:stretch/>
        </p:blipFill>
        <p:spPr>
          <a:xfrm>
            <a:off x="4714920" y="29383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5"/>
          <a:stretch/>
        </p:blipFill>
        <p:spPr>
          <a:xfrm>
            <a:off x="4143240" y="39290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6"/>
          <a:stretch/>
        </p:blipFill>
        <p:spPr>
          <a:xfrm>
            <a:off x="5745240" y="4357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7"/>
          <a:stretch/>
        </p:blipFill>
        <p:spPr>
          <a:xfrm>
            <a:off x="2928960" y="4807080"/>
            <a:ext cx="15717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76200" y="857160"/>
            <a:ext cx="8391600" cy="57056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1071720" y="21430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2500200" y="2184480"/>
            <a:ext cx="78588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3714840" y="2163600"/>
            <a:ext cx="1143000" cy="368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3929040" y="3917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857160" y="4367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2286000" y="436716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8"/>
          <a:stretch/>
        </p:blipFill>
        <p:spPr>
          <a:xfrm>
            <a:off x="5072040" y="52243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9"/>
          <a:stretch/>
        </p:blipFill>
        <p:spPr>
          <a:xfrm>
            <a:off x="6786720" y="5235480"/>
            <a:ext cx="142848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0"/>
          <a:stretch/>
        </p:blipFill>
        <p:spPr>
          <a:xfrm>
            <a:off x="3000240" y="6103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1"/>
          <a:stretch/>
        </p:blipFill>
        <p:spPr>
          <a:xfrm>
            <a:off x="6357960" y="6113520"/>
            <a:ext cx="1428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952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786120" cy="18576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2928960" y="166356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5286240" y="166356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7143840" y="1643040"/>
            <a:ext cx="71424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1500120" y="542916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04920" y="938160"/>
            <a:ext cx="8534160" cy="5705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1357200" y="17859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1428840" y="3143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4929120" y="53276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1500120" y="6215040"/>
            <a:ext cx="6429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595440" y="1324080"/>
            <a:ext cx="79531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7:5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